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D2BA-AE41-4743-A48C-3E354A9F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7CB-B849-4487-941F-C0ABEC2E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151F-3A25-44C0-A1F1-543B2206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90F-AB78-469C-A6B2-C6FF79A2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8048-B575-4A8B-886B-3B6C0D25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70DE-DBAF-4BA3-A8A7-922B6144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C445-A05F-4A2C-B488-811EA640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6A62-21CD-4B6A-B1FB-9AEB21D1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A6AF-7334-4E68-AE4F-93B13126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1BAE-11F0-401E-91AA-C641C19A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8596-E6C6-46CD-B094-4A231A28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C56-37EB-4EFD-9C23-4D1B199E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4EE7-06FD-4998-AD1A-0ADD8B10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BB28-F555-4AB3-A849-C4D0F1EF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16A1-2E01-4149-853B-9580D21E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78A8-5144-4152-B3F9-76205370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83A9-784D-48CE-8DD0-FF38E24A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C3580-D429-4614-857C-39200139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E7EF5-EF04-44DA-BBCD-A3A0DDDC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1C4E2-0DF9-4218-BDFA-209FF11D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83B6B-F54F-4DCB-8664-B06CC44E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60968-15B6-4BF3-B753-629965CC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E4B-1074-4756-AA61-21B8EBC8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73E69-1467-47F6-92E7-E8F2F5DD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F4281-7A5D-459E-B453-51B4A138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324B8-EE33-44A6-BF22-2E5B71A2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CCBA1-5B5D-49FF-9924-FD9EFE97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F9225-F6AE-4B17-8831-2FC889A6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A6B8C-72BE-4867-8687-F83398B7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38555-F6D6-4814-8282-92011A38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60991-17DA-4B88-A458-3703A13B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ED28D-259D-47F5-B410-A337C2F4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0E306-BD0E-4061-B1BF-3550EBFE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00E-CC71-4AAD-8C4B-DBEB623B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B3D09-AFFB-4EF1-87DC-7BC0DD18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AC897-4A54-4B0C-B9B6-23BE96A4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F69A8-29EE-4BBF-95A6-506366FA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7E400-2A82-4F55-835C-EB851ED7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A5EA6-B7B4-4547-A330-43998FAD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EC9FF-D40F-4B8B-AD18-51676D39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B7DD8-3E4F-4926-84D9-B538C71D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08425-9B4F-4E36-AC21-DA795AC1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614AF-168F-41D5-BD0C-B094F8A7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E062-55C4-4582-9F88-4422C182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76A-FDBE-4413-9B79-46E84083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A8F7-9669-467D-BC0D-C30F28A2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161-B870-4374-9FB2-55D5BD93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673-89EA-4364-85E3-42AB6D3C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71DA-229E-484D-9CDC-229FA51106E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dbf5f9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dbf5f9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dbf5f9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dbf5f9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FF3B-4B41-4C2A-88DD-58619107B9B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dbf5f9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dbf5f9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AEAB-5FE5-45B7-B591-115BBD0E826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C0A9-151D-4BCA-BCA1-68FB606CF2E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3" descr=""/>
          <p:cNvPicPr/>
          <p:nvPr/>
        </p:nvPicPr>
        <p:blipFill>
          <a:blip r:embed="rId2"/>
          <a:stretch/>
        </p:blipFill>
        <p:spPr>
          <a:xfrm>
            <a:off x="438120" y="1255680"/>
            <a:ext cx="822492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040" y="4419720"/>
            <a:ext cx="7543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Unit Plan by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lyana A. Agosto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Niña Rose A. Aguilos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Assessment Summa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 class will engage with questions that will measure their past knowledge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re will be class discussion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Formative Evaluation will follow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Assessment Summa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 learners will be grouped accordingly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Start of group discussion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Making of models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Presentation of models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2"/>
          <a:stretch/>
        </p:blipFill>
        <p:spPr>
          <a:xfrm>
            <a:off x="530280" y="2889360"/>
            <a:ext cx="8315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 topic looks into the levels of organization of living things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It would help us know the different roles of each levels of organization into our lives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Goal of the Studen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y will be a learner at the same time a teacher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y will be able to share some of there knowledge and apply them to the discussion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ssential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What is the importance of the interaction of cells, tissues, organs and systems in maintaining the life of an organism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Why do we need to study anatomy and Physiology of animals? 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ssential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How important is the understanding of human anatomy and physiology into our live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How technology can be of great help in maintaining and helping defective organs to function well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Unit Ques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What are the Levels of Organization? Arrange from simplest to the most complex. Describe each level.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Content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What is a cell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What is a tissue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-What are the different types of animal tissue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-What are their use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What are organ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Content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What are organ system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-What are the different types of organ system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-What are their use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What is an organism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Assessment Timeli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52280" y="1600200"/>
          <a:ext cx="8839440" cy="478944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Arial"/>
                        </a:rPr>
                        <a:t>Before Project Begins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Arial"/>
                        </a:rPr>
                        <a:t>Students work on projects and complete tasks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Times New Roman"/>
                        </a:rPr>
                        <a:t>After project work is completed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34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9323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Arial"/>
                        </a:rPr>
                        <a:t>Questioning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9323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Arial"/>
                        </a:rPr>
                        <a:t>Discussion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9323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Arial"/>
                        </a:rPr>
                        <a:t>Unit quiz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9323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Arial"/>
                        </a:rPr>
                        <a:t>Class groupings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9323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Arial"/>
                        </a:rPr>
                        <a:t>Group discussion and sharing of insights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9323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Arial"/>
                        </a:rPr>
                        <a:t>Making of their models (1 week)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9323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Arial"/>
                        </a:rPr>
                        <a:t>Model presentation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9323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Arial"/>
                        </a:rPr>
                        <a:t>Model rubric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04:49:12Z</dcterms:created>
  <dc:creator>USER</dc:creator>
  <dc:description/>
  <dc:language>en-US</dc:language>
  <cp:lastModifiedBy>nave1386</cp:lastModifiedBy>
  <dcterms:modified xsi:type="dcterms:W3CDTF">2010-09-03T19:43:32Z</dcterms:modified>
  <cp:revision>15</cp:revision>
  <dc:subject/>
  <dc:title>Human Anatomy and Physiology</dc:title>
</cp:coreProperties>
</file>